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294-2A8E-409D-A890-2B5A9BA0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88A-4947-4499-9E4D-D4F03F7A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15469-1D76-4638-AAF3-8B324CCA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40E7C-C7AB-4F09-A05C-C33994C7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9C80F-7421-4656-B3FC-A7C680E1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2F08C-CCD5-4CC1-AF7A-0EEA8E9C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635E1-67A0-4836-927E-D116C5C0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C3C3B-B963-4D6E-B2AD-F78EB81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4116D-5AD5-46D6-AA22-5B5480BB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097C6-90ED-4CFD-B617-8458E87B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3D34A-66C1-4FE3-B7D1-3DDBAF2D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517A1-FA01-438C-8A57-32EF0852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45B-8164-4D09-ABD6-B7F7154D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E0854-6E8C-4527-B666-9B237F03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54B83-2C5D-4480-B819-B449E4EE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3FD9B-6D0B-42AC-B404-D6B1265A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AF178-0E29-45FA-A589-E70623F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8CB42-1643-4D44-B359-99A39601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3C717-33FD-4187-BABC-0EFD908F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FC782-659D-4976-A2A2-BA93AFC1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AD0DD-C02B-4C23-9F08-9089572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02C59-7CF6-4900-99D9-02712519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AE5AD-1977-4820-AB63-C97A9CF1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7A6-5C8D-41DB-8308-67741A82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733B2-7C6E-4E6A-BBAE-078EF645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1A2D3-F6A2-4AEB-9836-3881F3D5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36CFC-F3CF-4EB7-A00A-CD57F7F7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E7608-47CD-44CC-A043-4EE2E307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7A5A9-538A-43EC-8638-81389DCE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62B27-6AA7-4071-A3F5-01021267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47072-3606-42A3-B164-22FCF37B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949D7-2380-4918-9930-B813C621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63E18-F5F4-44D1-B941-596493EC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E458D-8EDF-4136-9FDA-57C38CE3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DC4A-FE28-43D6-AF47-F3E4300E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2284D-5467-4187-9667-425C33C9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B3DC9-E25C-4936-9D6A-EEA5E763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EC120-D34C-45DF-A5A3-2E67AC58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4B0B5-7E32-41E3-B784-8D4FB2E2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69F9F-088F-42C5-A3B3-2FD00DEC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9A911-B4BD-4E7C-9505-BB7C6194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AF804-EA33-4E95-8C43-77099381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D4FD2-C20D-4E5F-8C0F-769697AD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AF60A-E57B-4149-A16F-6DA1B7C9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646CA-6A72-456B-A9EF-A513B346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CABB-7DEA-462B-BF8A-A3B6BB15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60A93-DAFF-4C19-B975-BC82B1C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83309-7385-4418-A0B5-2A3E18B3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0301E-EE62-46F7-B832-A152FC57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DD2B2-6F34-446A-861F-68AA1FB7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5211B-1B6E-4A98-8DE8-817DF9AB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70AE-57F3-467E-8DD2-938030A3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AE56-DA24-44FD-AEBF-A1A80621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CEC5-4133-4160-B4B2-0BA4015A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3D36-CB77-4029-B17F-6DA25320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A12F-330A-436D-AB43-065099A9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3D0-61B1-4E50-BDA8-A3CD066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52AD-80F7-4E22-B0DA-528F10A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433C-373F-475D-ABDC-ACED9F2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EE5A-F19F-41C6-9833-7857E15D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102C-8E81-4413-8024-EFF1488A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8344-06CA-4246-A954-7253EABE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ED46-D424-4434-9F08-9199F86B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636C-072B-4488-97AA-232DF344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16F1-C7D4-46A8-8052-7A9E8E0B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7259A-3E1D-4CEB-9D26-4705A427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3770-A1A4-40DA-915E-D2E5BFCF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234-FD5C-49C3-A7F4-8649D737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E31B-A097-4C84-9B9F-F2179035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0B68-7DFE-4A03-A6C1-83E596E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48B5-0FB5-417A-9F15-D8FD23D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DF5A-8E32-46B7-BEE0-A4DB12CC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2070-B66B-4E46-98AF-EBB638F1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E2CA-C004-423C-AF8A-434982EC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A697F-8EB0-4B8A-9FAA-355D7624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F129-34EB-4495-BAE9-EE23E9A1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4898-E72C-4F33-81D1-C052603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4DBD-6705-452B-9B50-FEEA35BC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D47-913D-4683-809E-C3AADAC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2A3B1-6605-4E57-A06F-37A61805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8B4BD-CC0C-45C6-A439-EF488540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CAA0-86AC-4CF0-8AC3-1586BAC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1991-DDD7-4661-B8F8-526E893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52E0-4D26-4745-85FB-A4279EC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79D4-D40A-45E4-B68B-8AD2F94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F761-B0CC-4BB3-905A-EE9CE6F9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1252-E7E6-4BF3-B97C-2D346E0A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2645B-AB6E-450D-B64F-2A7DE53C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683FA-0997-43B2-A428-E8463AD9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C50-ED77-4DEE-825E-4429468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892C6-8E24-4730-81D3-2F4A7705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3BF1F-B046-4AEB-B99B-62602789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52125-DB08-4799-9848-774AD56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AB06-4A4D-4B5C-ACD0-CED86899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42780-6047-45ED-B49F-07E6444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7553-40DD-4A4B-BD64-E73B744E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5E45-F75B-4551-BE6C-94095450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CC753-1441-4352-A05F-A18FA235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4856-2505-41D2-9EAE-407CD884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E8A09-EF05-478B-9B8C-9BB3FF1C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DD1-F512-4DDD-BF53-044C4EF1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65393-8FC1-46E5-8917-B56E53E2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CBC7F-C8F2-4FE7-8E26-91B0C27D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142F-2EAA-4E06-83D2-CB94D4A6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EF07-F1C0-43CF-A1DF-A6318B3E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55F37-A12B-4737-94B6-5B4C537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35E52-23CC-4330-A36A-A46DF15E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89BC0-CE23-489A-BE19-93DC9641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E1CA5-ABBB-4B0E-8AED-6EFE995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2CD7-D8BD-40EC-818D-F547B2CA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66002-AC59-4C63-BE68-3EB163F9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56B-C696-4A4D-874D-21FF25D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4ACF4-FFC8-4B79-9FA9-7545F8D5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D151B-5A54-4A7C-9081-7C50F466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C65E3-4751-47D6-B7E6-33CD2F6F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6E99D-EEF5-4E57-8151-BBFDBBB8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165FD-B04F-49B2-A931-46F3C956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D68C-F20C-423E-9A12-B109D609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37998-0BB9-4C56-8E25-C44A328A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8F13B-2D73-4665-A7AB-D7F76D24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2325-A857-485C-82F7-159B78D2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28EAF-35B5-4323-AC04-428B92F3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65D-C021-47EB-87D7-B52476D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5F59F-B888-4C36-96DB-6E41F2C5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96169-EB93-43DA-842E-6A93A20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17DC7-566C-4834-9A34-7BCFB2D6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4D76B-3F2D-4A6E-9D86-7A72CBB5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86B4-9B5F-45AE-9549-E86C334F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C2CF1-F407-44A8-AD86-C57FE126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8AD0-D0AE-4A99-B95A-BEE582B6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6FC87-2723-43D3-8D47-0315EC11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986F0-4EC7-4B0E-BEF5-B670F003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C1003-8BF4-4C75-9F51-3A8A6BEB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291-0325-40A6-9AF5-2CD8E237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0C42-2068-4B9F-934B-7528D6D6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EB800-6C99-4CFE-8489-F99DC1B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B6CE6-F584-45B7-9CFF-587C5F2D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63086-D2F8-40B0-B538-239BC22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53852-B536-4BBD-BB55-358E7FDE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75DF8-3D38-4CAA-90E8-F71A0498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C1EC0-F016-4543-9F03-C8E60787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74950-9E3B-47AE-BF43-F90E94B9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625E5-AEAB-4CFB-B9F5-63278533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FE61A-1FC7-473B-B8CB-08D96F9D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989D-8FC4-4824-BA12-D9F1156F17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62C9-9165-4B95-A803-E9E6375156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E1F9-A8ED-481A-B2D4-F29BB7171C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5205-41CA-4333-BFF2-630DD5A80A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A1FA-467A-437A-87AF-B4E404F67D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0DD2-7194-4F7C-850A-27564468B7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9775-C6B3-4B5B-9FE5-0EBCACAE81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5335-4DF5-4F1F-A38F-CAE3136B4C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F392-872F-4CCF-AB9E-DF13725908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2B27-C511-4A49-A0C6-5AD3260D29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5147-BA20-46DD-928E-3CEA201655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A93A-A144-45E6-AD90-FE155F5596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53 Buď, Pane, so mn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, Pane, so m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sa chýli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mnota hust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mi pom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zkosť ma tiesni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ôľ mi zviera hru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žca môj ver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mne stále buď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si Skal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ho spas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útočište v chvíľach súženia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radcom v ži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om tráp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techa moja z teba pra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ty si so m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č sa neboj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strachu pôjde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sĺz údolím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osteň smrti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ob kde kraľ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, Pane, vernou lás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uj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ýchlo sa konč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ho žitia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áva i radosť miznú ako sen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sa mení, všetko zani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zmien si len ty, Láska odveká.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7:22:35Z</dcterms:modified>
  <cp:revision>58</cp:revision>
  <dc:subject/>
  <dc:title>Je veľký náš Pán, on slávy je Kráľ Nech do všetkých strán  spev vrúcnych znie chvál.</dc:title>
</cp:coreProperties>
</file>